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02440" cy="9388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9388440"/>
              <a:gd name="textAreaBottom" fmla="*/ 9388080 h 9388440"/>
            </a:gdLst>
            <a:ahLst/>
            <a:rect l="textAreaLeft" t="textAreaTop" r="textAreaRight" b="textAreaBottom"/>
            <a:pathLst>
              <a:path w="21600" h="28552">
                <a:moveTo>
                  <a:pt x="4" y="0"/>
                </a:moveTo>
                <a:arcTo wR="4" hR="4" stAng="16200000" swAng="-5400000"/>
                <a:lnTo>
                  <a:pt x="0" y="28548"/>
                </a:lnTo>
                <a:arcTo wR="4" hR="4" stAng="10800000" swAng="-5400000"/>
                <a:lnTo>
                  <a:pt x="21596" y="2855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203480" y="712800"/>
            <a:ext cx="4690800" cy="35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09560" y="4459320"/>
            <a:ext cx="56800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079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019040" y="-360"/>
            <a:ext cx="3079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919720"/>
            <a:ext cx="30798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019040" y="8919720"/>
            <a:ext cx="30798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1760"/>
                <a:tab algn="l" pos="803160"/>
                <a:tab algn="l" pos="1206360"/>
                <a:tab algn="l" pos="1609560"/>
                <a:tab algn="l" pos="2008080"/>
                <a:tab algn="l" pos="2413080"/>
                <a:tab algn="l" pos="2816280"/>
                <a:tab algn="l" pos="3218040"/>
                <a:tab algn="l" pos="3621240"/>
                <a:tab algn="l" pos="4024440"/>
                <a:tab algn="l" pos="4425840"/>
                <a:tab algn="l" pos="4827600"/>
                <a:tab algn="l" pos="5232240"/>
                <a:tab algn="l" pos="5634000"/>
                <a:tab algn="l" pos="6033960"/>
                <a:tab algn="l" pos="6438960"/>
                <a:tab algn="l" pos="6840360"/>
                <a:tab algn="l" pos="7242120"/>
                <a:tab algn="l" pos="7645320"/>
                <a:tab algn="l" pos="8048520"/>
                <a:tab algn="l" pos="8064360"/>
                <a:tab algn="l" pos="8467560"/>
                <a:tab algn="l" pos="8871120"/>
                <a:tab algn="l" pos="9274320"/>
                <a:tab algn="l" pos="9677520"/>
                <a:tab algn="l" pos="10080720"/>
                <a:tab algn="l" pos="10483920"/>
                <a:tab algn="l" pos="108871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1760"/>
                <a:tab algn="l" pos="803160"/>
                <a:tab algn="l" pos="1206360"/>
                <a:tab algn="l" pos="1609560"/>
                <a:tab algn="l" pos="2008080"/>
                <a:tab algn="l" pos="2413080"/>
                <a:tab algn="l" pos="2816280"/>
                <a:tab algn="l" pos="3218040"/>
                <a:tab algn="l" pos="3621240"/>
                <a:tab algn="l" pos="4024440"/>
                <a:tab algn="l" pos="4425840"/>
                <a:tab algn="l" pos="4827600"/>
                <a:tab algn="l" pos="5232240"/>
                <a:tab algn="l" pos="5634000"/>
                <a:tab algn="l" pos="6033960"/>
                <a:tab algn="l" pos="6438960"/>
                <a:tab algn="l" pos="6840360"/>
                <a:tab algn="l" pos="7242120"/>
                <a:tab algn="l" pos="7645320"/>
                <a:tab algn="l" pos="8048520"/>
                <a:tab algn="l" pos="8064360"/>
                <a:tab algn="l" pos="8467560"/>
                <a:tab algn="l" pos="8871120"/>
                <a:tab algn="l" pos="9274320"/>
                <a:tab algn="l" pos="9677520"/>
                <a:tab algn="l" pos="10080720"/>
                <a:tab algn="l" pos="10483920"/>
                <a:tab algn="l" pos="10887120"/>
              </a:tabLst>
            </a:pPr>
            <a:fld id="{9EB478D4-C370-4DEE-A635-BF09D13E7B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039680" y="712800"/>
            <a:ext cx="5021280" cy="352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18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1115-345C-4E26-BB83-6C577B0CA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5998-3DDE-4DA1-8087-38737358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DF88-5CB7-48D6-91B7-7D0AA4BD7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C7D2-F4C9-487A-B6AD-EBBF0EA26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7856-BFB1-4DF9-906F-D9E34257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627B-BF46-4F67-984D-56B18464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B3D7-A60C-4A97-B9D4-2D5E511E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F4C0-AAFA-4114-8EF4-FDA620AD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0A77-A7C7-4D8B-B281-A7957774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5835-D8CB-46EF-999F-898F902A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C8C5-544B-4D11-A022-D57A9934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5440-9162-4496-9DE8-BB00CB3A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56356DA-8206-46CE-B1E5-3E6B32A357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095120" y="2065320"/>
            <a:ext cx="79700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4160"/>
                <a:tab algn="l" pos="6288120"/>
                <a:tab algn="l" pos="6737400"/>
                <a:tab algn="l" pos="7184880"/>
                <a:tab algn="l" pos="7629480"/>
                <a:tab algn="l" pos="808524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You Are My Everything</a:t>
            </a: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468360" y="655560"/>
            <a:ext cx="9067680" cy="51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Why you love me so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Will I ever know?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What you see in me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Beyond my frailty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I can be myself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In my prayer with you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You know me so well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No mask I wear with you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468360" y="655560"/>
            <a:ext cx="906768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You are…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The love of my soul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You are…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The One who makes whole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You are…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My everything, You are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39760" y="655560"/>
            <a:ext cx="9524880" cy="51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You say I’m perfectly made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You say I’m covered in grace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Unconditionally loved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My sin recalled no more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I can hear Your voice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In the still of the night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You reveal the course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The plan You have for my life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68360" y="655560"/>
            <a:ext cx="906768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You are…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The love of my soul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You are…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The One who makes whole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You are…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My everything, You are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87480" y="655560"/>
            <a:ext cx="9993240" cy="49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Verdana"/>
              </a:rPr>
              <a:t>You hold my heart in your hand</a:t>
            </a:r>
            <a:endParaRPr b="1" lang="en-US" sz="4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Verdana"/>
              </a:rPr>
              <a:t>Speak to me tenderly</a:t>
            </a:r>
            <a:endParaRPr b="1" lang="en-US" sz="4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Verdana"/>
              </a:rPr>
              <a:t>And, I am unafraid</a:t>
            </a:r>
            <a:endParaRPr b="1" lang="en-US" sz="4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Verdana"/>
              </a:rPr>
              <a:t>Your love for me runs deep</a:t>
            </a:r>
            <a:endParaRPr b="1" lang="en-US" sz="4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Verdana"/>
              </a:rPr>
              <a:t>I let my guard down</a:t>
            </a:r>
            <a:endParaRPr b="1" lang="en-US" sz="4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1" lang="en-US" sz="4200" spc="-1" strike="noStrike">
                <a:solidFill>
                  <a:srgbClr val="ffffff"/>
                </a:solidFill>
                <a:latin typeface="Verdana"/>
              </a:rPr>
              <a:t>Cause I’m safe with You</a:t>
            </a:r>
            <a:endParaRPr b="1" lang="en-US" sz="4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Verdana"/>
              </a:rPr>
              <a:t>And in Your presence I’ve found</a:t>
            </a:r>
            <a:endParaRPr b="1" lang="en-US" sz="4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Verdana"/>
              </a:rPr>
              <a:t>No greater refuge</a:t>
            </a:r>
            <a:endParaRPr b="1" lang="en-US" sz="4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68360" y="655560"/>
            <a:ext cx="906768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You are…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The love of my soul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You are…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The One who makes whole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You are…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My everything, You are</a:t>
            </a:r>
            <a:endParaRPr b="1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nce Flowers</dc:creator>
  <dc:description/>
  <dc:language>en-US</dc:language>
  <cp:lastModifiedBy>pcwade</cp:lastModifiedBy>
  <dcterms:modified xsi:type="dcterms:W3CDTF">2016-09-06T05:22:44Z</dcterms:modified>
  <cp:revision>1918</cp:revision>
  <dc:subject/>
  <dc:title>Slide 1</dc:title>
</cp:coreProperties>
</file>